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919-FAB5-42EC-B6AF-5977EF0A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630-9B07-4E5F-87EC-377EBA5F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33C-2D02-427C-937F-A1A59F09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8D3-2172-4E67-A39B-A3899B1F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63F2-2E22-474D-9772-51820658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1E8E-8788-4E97-8A78-3F5E9FD1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BF79-7DFE-4673-8C46-B0BD3FE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6957-D166-40C8-88B6-5B73454D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E588-7BE4-4506-84C8-9B1075E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256F-FB81-413E-9F83-84CFCAFC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6E93-D9A6-4268-BF8F-E7341160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1B6-D054-4CB2-8B84-FD5034AE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F691-4B7C-4BB8-85F1-07E9A8CA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9ECC-ACED-430C-845F-7290B449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4393-3A9C-428E-9A9A-6DA843D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95E9-C8CB-45DA-B49E-A7F628E4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A9AF-AE0B-4BB9-80DF-54A4BCA6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412F-EA22-41D8-9270-64D869CC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2F97-7975-48BA-BAA7-41EFEE09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E7FC-D859-45FE-969F-08F6E407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09E9-9224-4C4A-A67F-9B0102C0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0DEE-E446-493E-B7F2-5338DEF8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E475-20EC-4F56-8992-55848067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108D-026E-4845-9983-F22F8E64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54CE-AAD1-4FD1-B8DC-5C723D02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6883-C31A-44BE-A931-AEDE26AD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D7EB-5D5A-445E-9137-9350036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7E294-08CA-464F-A56E-1F0ACCD4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A105-5110-4506-AEAF-12CD52DA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2BD0-8006-43D7-B3E1-01EBD3AF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7CEC2-9F09-4CB1-A65F-5A61DCD7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08E0-8735-465B-9577-9C6CAF73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3F58B-E8D7-4E97-8196-E6CDC82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16F-8DC1-439F-A42F-89F7C8CE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0D6D-4158-4D63-A85A-7A7A60CC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AB15E-29C9-49B9-B5CF-D12B8F14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018F-16E5-4F94-B13D-08901C2C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CCD2-1C9B-43CF-8209-C262243D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E69D-C787-4741-A6F2-BE0327E3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B233-E0EA-4228-8468-EDE365A7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266F-1076-430F-B330-EA6848B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0EB59-CDC4-40C1-8DF6-E608F272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2CBD1-D53F-40DB-92D3-8D5F8C6F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24C8B-DC64-4DC0-947D-4FDC5F20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7FB-DB1D-4D37-94AA-8431DFD5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4E6E1-3BBE-4565-9B29-C3BEF789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AD25F-5549-4CA5-96FA-2F8F7261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40E9D-9638-4E6E-8E14-4B69936B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06F93-A198-49B7-B245-05657312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2616-0265-437F-8C80-25734429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FD5F7-B333-4644-B757-B7A73CD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7CE4D-E39F-4609-9614-67AB267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C53A-A6B5-49E7-9046-C3B6983C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736BC-F5C4-439D-85C2-A4956562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E8B5-5D47-4B3F-9397-D1321F7A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C0E-10A9-4D06-B685-F1C101CF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CB5A-A1D7-475E-9D6F-048938FA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9B137-2520-4CF3-8B49-0050F0F0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74295-EF28-467E-BFFB-DEAAC097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2965B-C707-4EBD-981D-7FD1A7E3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87CE7-A37A-45AA-BE2B-779333C3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2B698-4AE1-4BA3-B59F-72E038E5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5DF78-5645-46E1-BC3F-0CE32C6D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2B2B7-1FD5-47DA-9641-1EFA9D7A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1777D-896A-484B-B234-675488A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2072C-4CE2-4738-BBAB-B7AC16CF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294-06C4-4384-9905-749EB55A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1E9BC-CC8A-4740-BE38-DB93A21E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05451-BAD0-48D8-A8F9-B8C195F1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823E-9FEB-43A3-9C0E-641D3322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305-2FC3-4906-ACED-45A97E4E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DE6-41E5-447F-809A-763EF0AD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D229-15A2-43F4-B93B-BC69A9848BF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BEE1-3064-4AF4-B9D5-B3841441253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7C69-9EF4-4A1A-9EB9-7BE9DD0BF07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2198-B6EF-49AA-8835-3CE1A75AA83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46FE-B189-4E52-BEDD-FF9EFFB1454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F33A-4006-43B9-9AA8-697E496E3C2A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197-AA0E-4A1E-BEBD-CA80418FACEF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6E88-AD05-4E0E-B191-C5C9216B4D9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B73C-D791-4CDB-9100-6D802DEDDAA5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CEA-B808-4133-B746-B69BD5EA6C0B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27F7-B228-4F75-8FC2-B2E051B8A23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A880-8F75-47B0-9BB0-0D55743C4F3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Users\hory\Desktop\IMG_0002.jpg"/>
          <p:cNvPicPr/>
          <p:nvPr/>
        </p:nvPicPr>
        <p:blipFill>
          <a:blip r:embed="rId1"/>
          <a:stretch/>
        </p:blipFill>
        <p:spPr>
          <a:xfrm>
            <a:off x="2133720" y="228600"/>
            <a:ext cx="42796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1AF5-D6E1-462D-A635-73181C360CF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2133720" y="762120"/>
          <a:ext cx="450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50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E5EB-B666-4B97-9E1A-E176FFAD2BA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41560" y="609480"/>
          <a:ext cx="4740120" cy="61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609480"/>
                    <a:ext cx="4740120" cy="61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6ED0-259C-403B-ACE4-F9601B6DCB4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057400" y="762120"/>
          <a:ext cx="457200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57200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8:48:30Z</dcterms:modified>
  <cp:revision>262</cp:revision>
  <dc:subject/>
  <dc:title>PowerPoint Presentation</dc:title>
</cp:coreProperties>
</file>