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445-5F19-4B64-B730-060F69B3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AED-6BD6-4A8C-BDB1-478079C5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AB9-2A18-4275-920D-3226692A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DDC-0882-459E-845D-BEE29200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7284-2439-49B6-B2FD-DDBAEC6F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9C73-2C3A-4569-821F-1F4957AA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0858-B6C9-4F32-BDC9-2ECD0AC7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F048-03E2-47C0-9B35-71EF987B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10ED-DBBC-4696-9B16-C1D55A5A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748D-D63E-45D5-B48D-C8DB286A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B104-4BC0-47E0-9534-F8284D85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A36-91C9-4934-ABA9-731B160B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CFE4-BD47-48AF-8EC5-3A178DE1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13B8-D4E4-4A74-B3C0-8FD80D2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790E-629D-47F5-B579-0F2B78DB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0AD8-C982-4640-B7D9-192D9C6B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BEC5-1ABD-4B6E-A0B2-13F68FBA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0FF9-05FA-4DEB-87E4-7DCA7F71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A0D28-7F88-4B63-875C-22912E15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74AD-3276-4EFE-BAF2-3B91F000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95C6-4A7D-489F-BF20-FD1D7132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0F625-1619-474A-A300-F2B5570E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E81-6FE8-47F0-90B4-F5AB52B3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EA14D-09B7-4730-A981-7185F815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CF04-935C-4D1B-A657-39A136EA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C881-6744-43CF-9B7A-71101C5B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FF0F-9017-4905-A4F3-EC0B4C3B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15EF-364D-441E-8C26-DF90203D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D973-C0F3-4D9B-B020-47FCC787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661E-0716-4716-BA19-721ADED4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9FDF9-D7A0-4E64-B5C5-5E248846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518F-D59B-4725-B05D-19571C29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930B-F827-4D0A-B56F-272FF0AA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7AA-026C-4E14-AC2C-37820001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7971-EA86-4617-8629-B5222D82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6620B-DEBF-4757-901A-577895F0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E847-B711-4DD3-9E14-CC4D6C76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34E64-1803-4C18-882A-A7452E0B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987E-6561-4BE8-BAB8-121D4365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E1C91-F7C6-42BF-AAA9-2D4FFE37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5D505-370E-42FE-AFA8-B236B449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CC37-0740-48BB-98FE-7B5E1A21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40B9-4392-4CB8-B8C5-6194ED51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23ABA-FE6F-460D-8870-AEAF89B2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1B8-580D-4FD0-BB37-F51BAC40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33DE2-C607-49D0-BF47-574238CC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E1B70-C2F3-4AB8-8046-0F8F3BAB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1B051-9B3F-44C0-A3FE-D832340B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4DD3E-825E-469B-83FB-575E9B62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0027E-411E-4424-9EF4-9ED28531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25F60-EAEF-4E11-A6F5-63F38D35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71997-5A02-4760-9647-315C3D00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2511C-312C-40E5-9E21-D1A37225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18285-70F3-4E72-969B-A2B64B57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FD62B-E569-4FBE-9289-648B81FE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C5E-A665-4FE9-B38C-1146BF7C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EB491-6898-4F66-9DFE-70E61CBB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4BCE7-D250-4980-A638-B6497216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BD543-B80D-42E9-B775-04FF8D19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F2CA2-00A2-4CEF-85BE-62728915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06528-CFFC-439D-9934-67030FDA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EAC85-8ACB-413D-AA5C-DBE6D7B8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25B5D-97F1-48B9-B5E9-B225A610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0DEE6-318F-4DB0-892E-F05DC6E1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40755-938C-40FA-BE82-215527DD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D0BDB-979B-4DED-BE69-D92B131A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B58-0205-45EC-B8D8-AF8724E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A7115-2A24-4FEC-A960-53D3A519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35ED6-1AE0-47C6-B107-4764FB28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38ADE-F304-4FB0-8BC1-8784B6CA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362-243D-4CE7-BD9E-1CAE1B55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3B9-6A2A-4CC6-9BD2-648D9A9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4594-70BE-4777-BB17-CD24CAE100C2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9392-1E56-4EC8-82EF-F7E490B2CD5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E892-257B-47BE-93CE-C44FC89DC98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D9AA-46F2-44DA-93DD-B854B4787A3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40D8-44E3-4328-A130-60284D5490C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514A-E668-4F7F-BD59-3F6A949CC7B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570E-BE6B-4BED-9938-B12F222433D7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373D-B592-40E9-B007-B29B3A3CAA1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5E19-92D5-4711-89E8-17F650E09814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7E5C-1C52-4DD7-8C7A-579289FEE774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EC23-CC6C-415A-9A04-72FB37026C4B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C152-F5B4-4D6F-88DD-5E09A34EDEF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D6E5-C7FA-4F58-A1A1-95636748850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30"/>
          <p:cNvGraphicFramePr/>
          <p:nvPr/>
        </p:nvGraphicFramePr>
        <p:xfrm>
          <a:off x="1676520" y="304920"/>
          <a:ext cx="4952880" cy="64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920"/>
                    <a:ext cx="495288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401D-0EF7-4C0D-B267-51E97BAC154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175248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1A89-CAAE-4874-9625-3A962761B9E5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1685880" y="457200"/>
          <a:ext cx="486720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457200"/>
                    <a:ext cx="486720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4B1F-D4CF-49CD-BC9F-3A75366D284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1981080" y="-44280"/>
          <a:ext cx="4876920" cy="68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44280"/>
                    <a:ext cx="4876920" cy="68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18:30Z</dcterms:modified>
  <cp:revision>262</cp:revision>
  <dc:subject/>
  <dc:title>PowerPoint Presentation</dc:title>
</cp:coreProperties>
</file>