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73C-A825-4A69-88E9-C11E98CF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817-1F78-496B-8392-DFAF91CA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DAC-96AB-4505-97EC-EBC4FDF5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E6E-5B6C-495C-8647-B1E89C78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7ED6-5409-4A0B-979E-2C508B0F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9904-6047-4161-A489-709A0812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C0A2-6090-44F7-B414-62DB8C1C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14D8-CB70-4651-8E69-66B503AE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F260-28FC-4EC0-AC9E-9F89DDA7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A299-75A0-4E2A-AA6D-A4AF9FD6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6436-9C24-4847-8DCE-80DF1DF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675-6120-4F3C-84F4-6F527F76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94EF-6AC0-4196-AE6C-8F30F968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6AE5-97B2-4EE8-9095-95857B3C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0B57-0928-428A-B7C3-59CED333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EE45-2209-4EFD-8AFB-9F0C8667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B514-A12C-4F07-901A-9D2F08ED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DC15-272A-4B2F-B03E-84EE57D1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98497-D830-4456-AC65-E3E87DDA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D09C-1A21-4694-A1A5-6EC1F6CB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E46B-BF64-4588-BA97-AEB48276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F9961-2865-422F-8E8D-8FDEBC62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2D8-DB0B-40EE-AE04-396530BF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209D-77A7-4934-A7E9-500EFDD2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9F3D6-5772-49AB-A0CE-E46C30E8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52EC-56BE-4ADB-A2FF-5A24FFBE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5123-C851-44CE-89B4-13821C7D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383A-A14C-439F-A953-A626A562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FE5A-314D-4AC3-93B1-52C96F4B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05D9-7E14-4550-9FEB-9BDC0BA1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83A28-E756-4E46-A722-C4AD02D6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68DF-8BCE-42A4-A64F-7405BFFA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C1708-F2C5-4371-A520-F06CEB0E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85E-EC76-4AEA-85B8-DFD99DC1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D8301-55AE-472D-9409-11589FFF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0299-AF8C-43D2-9007-B32D562F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8DB21-BD6D-4A44-9530-E30A3ACA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0E587-F2F9-4F53-9FC2-11925CC8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F877-3504-44F1-B912-89CD694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52C17-6A17-4E23-BB30-5851F16E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291B7-B4A3-4DE1-8042-AD6144CA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4BF4F-23B5-42F1-A160-7E99055C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C209-B43F-4422-8E57-C2196873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B0143-996B-4967-B7B9-080B8078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914-3B04-451F-BE02-47AF8AE1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8EF73-3829-40AA-ABB1-D5908694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C1B83-5732-4871-8F30-97696098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1314-507C-4A8F-B03A-A667DDBA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2ED3-FEBF-4E9A-9D75-F59D2557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39481-EC8B-485E-B603-1FB3558B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8A62-75C3-40A2-B51A-694A919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E44E8-FC27-45E5-88EB-BDE965C8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BA1C0-921B-40B8-BA1D-96922176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E73FC-A037-44B4-B698-D5D416A5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468C8-F667-41D3-B305-53A5A1A1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31D-6592-43EC-8248-8C0BCA77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90206-7138-4325-BF65-733270DD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D6CDF-ADA1-455C-9A03-A7CF8193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C3B5C-7DA3-44A1-94B2-6A6F185A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BB8C1-EFE5-4DC4-BD17-C98B956B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7AB26-448D-4080-8A97-007933D5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2C1E4-2616-4EBF-BEFE-CE9E55C8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AAB90-6422-4332-9EED-1610AE1E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36DD4-A1E6-4768-BE59-0F75FED9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F1E05-0448-49E8-84A2-37A7D671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C7787-EABB-44B2-A9F1-C648CBC6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F63-9701-42D9-921C-A2B10B28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F7F1B-7E32-4551-A571-6CFBA09A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98B42-1B0D-433E-B140-0580E02D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6E9B5-779A-47CA-9B67-27485075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D25-A6AC-44F2-9C06-56DFADFB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9F1-3D04-4A02-85D0-63BF8C4A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C73A-12C6-42E7-8686-697776204145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E788-0AB1-448B-9BB4-E59520272E6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FDCA-FD69-4619-8A29-28786944DC7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3CF8-087F-4312-98B8-9526F870C26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D141-6CDF-42FB-BC7C-432CA3455571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6ABF-62E7-4DF0-9AB0-F08B5D70A33F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66F8-295C-49EB-8790-00AE15326BB6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49FD-7BC5-4887-B867-BB7A00B8CF1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6BBD-A94B-439A-9206-5C64142DCA58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22D1-D119-4E92-B05C-5D5DD98B7BBB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31A0-A7AF-4E1C-BFE9-C720C6C6C803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2826-A7FC-4767-8BED-11188680F07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D781-A30C-4A51-9E5B-90E6FB58882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1905120" y="304920"/>
          <a:ext cx="4944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4944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3804-336D-4889-8C81-BDE17368B83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940040" y="380880"/>
          <a:ext cx="486864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380880"/>
                    <a:ext cx="486864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0BEF-8504-414C-A17D-E4AB64360ECA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2048040" y="380880"/>
          <a:ext cx="4505040" cy="62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380880"/>
                    <a:ext cx="450504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52:05Z</dcterms:modified>
  <cp:revision>267</cp:revision>
  <dc:subject/>
  <dc:title>PowerPoint Presentation</dc:title>
</cp:coreProperties>
</file>