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B2F5-F62F-417D-A981-CD90EBF28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E925-BEE6-45F1-8A4E-1DD927FB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3915-D0EA-4A6F-B321-CBE00AA3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E92A-A2D6-41AA-B9F1-6D4FB5E96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38AC-5A6F-478F-96A5-A5AF4CE9E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162C-EC2C-4505-9431-E2D8EFFF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CB70-F1D0-46B9-9509-B90CA5A1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DD87-5F2F-4B2A-857D-C378B778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9F33-5DF9-412A-9736-BD4E9CDE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D631-3137-43C8-BD9A-14FBDC87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8462-E577-4D1B-936B-E0F75820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A92F-6104-403C-A7FD-C571B954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C099-E433-4B7D-9F5F-2D8F5FF0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2F86-498B-43BE-B76B-4F47527E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AC6E-F05E-4BF9-9B35-9DB06CAF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BE92-712D-478A-BF3E-A548B261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3FCD-881A-47FE-9696-6AF5E5D9D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7238A-A52F-46E3-ACAF-B326CA2D3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83EC1-F26D-4F7B-968B-27631B38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7AB3C-9228-4584-AE41-E0C97F58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5B390-27F7-4F4B-92CF-521F2E82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A095F-96B5-4840-AD31-F640B1B7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EA5F-E008-46D8-B841-F9214114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40291-BE74-4A25-AD56-91753C82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A2DC7-205D-4F38-9000-44ACC631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C556B-C790-4306-99BD-9CD01699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7AE99-59BA-4D06-BCF1-42873E64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57D01-5E22-44A5-ACAA-5EE89C66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CA54F-89CD-4340-99F0-F0B4392B2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93922-5F2D-424F-A4E1-DEB0B761F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F1BE3-C8DE-4B2C-925C-A40E77423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0549A-C4B9-4F45-A344-0812EE1A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0B5C6-2545-45DD-960D-44F2FAD9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00C4-9FB4-4735-A27D-16B19035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192F4-8EFD-4935-965D-E091B70B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7B630-C55C-47CF-A28A-DD71EFF9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CD253-32C1-43D3-ADD9-09DDCBE3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2EA4E-5C39-4046-976F-E8A8CEF8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F059A-537A-4A20-BC98-3D12E7F4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AB7DA-E391-407F-BA5D-3FC9051A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9EE2F-BDF0-4EB0-92EF-EB0F1425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AB26B-47A3-4451-B22C-5635FADFC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E5A9C-01E1-4447-ACFB-F9C42A93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64C16-59DA-45A5-95E7-E891A031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D20F-3A43-4A72-8DDA-EAB4584E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6558D-57E2-4C10-B6DD-0C81D445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51C56-A6C0-4328-A812-5A06F871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A3FE6-23BC-4707-B363-94CFC498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305D0-4389-40F4-A3F8-AF22EE2D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D05F2-E558-4D5D-95EB-A5AEEF4A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1F06B-72A5-4B5E-96AF-28798B0D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07B7C-EAE3-4700-BFF8-2D2AB3A3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AE35B-83E8-4930-8AEB-177BE6D9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A892C-E7CE-4443-B871-85C91A16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813B3-5CE7-4E74-8655-12A1D67B5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E845-074C-4095-9BF9-4961CC00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26DB2-62C6-4B16-A2E9-E16C5CCF9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357C1-C42C-423E-A5A3-38638F643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64901-B7C5-4B79-8DEF-E31A139A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8CF46-1FB1-495A-8626-514941D0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F3E0F-0FA6-4901-B221-7BF3FE41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6B5BF-9EC2-4C5B-B136-E60E9178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49917-45C3-48AE-B2ED-448E889B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9C452-303E-40DA-BC59-183B1506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F3840-5D81-447A-8489-7F548920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0D30A-E683-483D-916C-E281BFDF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70B4-DC5C-47B0-996A-A42FED68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78028-C71F-40DA-B200-930ACCC3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9D5C7-C34C-4BF9-B3A1-45B3EB3AA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CB4C5-8323-4565-9D32-E1C2E0EB9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443F-BBF6-4910-9BB7-2E441156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B6D4-E9BE-4862-8B68-F45CCC3A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2ABC-863B-420B-891D-52A744797A50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EBAD-96CD-40FA-9F9A-15CBBB6CA52E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991C-7512-4BED-8F55-A9696486244C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A0EA-EF1B-4023-8D74-C399A5C0A823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97D1-0613-44ED-80DE-33E47D7AA555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3A01-185B-4C38-B87A-CDB805130E6E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Oval 7"/>
          <p:cNvGrpSpPr/>
          <p:nvPr/>
        </p:nvGrpSpPr>
        <p:grpSpPr>
          <a:xfrm>
            <a:off x="4224240" y="6035760"/>
            <a:ext cx="901800" cy="766800"/>
            <a:chOff x="4224240" y="6035760"/>
            <a:chExt cx="901800" cy="766800"/>
          </a:xfrm>
        </p:grpSpPr>
        <p:pic>
          <p:nvPicPr>
            <p:cNvPr id="137" name="Oval 7" descr=""/>
            <p:cNvPicPr/>
            <p:nvPr/>
          </p:nvPicPr>
          <p:blipFill>
            <a:blip r:embed="rId3"/>
            <a:stretch/>
          </p:blipFill>
          <p:spPr>
            <a:xfrm>
              <a:off x="4224240" y="6035760"/>
              <a:ext cx="9018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00640" y="6165720"/>
              <a:ext cx="557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8442-884E-4625-A652-9B787FADC8DA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6ADC-9333-4C79-8E69-061C552DD360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13C5-ED74-465C-9B03-F8C04A2E0F34}" type="datetime">
              <a:rPr b="0" lang="en-US" sz="1000" spc="-1" strike="noStrike">
                <a:solidFill>
                  <a:srgbClr val="f4e7ed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DB8E-0AA1-4EA5-9E9B-E717EF66EA09}" type="slidenum">
              <a:rPr b="0" lang="en-US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45AF-E4B7-40D8-95C1-A8765F23A8CC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EE92-1B18-4D13-9D16-D1C74CAB0962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622440" y="1231920"/>
            <a:ext cx="848520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3" descr="C:\Users\hory\Desktop\IMG_0002.jpg"/>
          <p:cNvPicPr/>
          <p:nvPr/>
        </p:nvPicPr>
        <p:blipFill>
          <a:blip r:embed="rId1"/>
          <a:stretch/>
        </p:blipFill>
        <p:spPr>
          <a:xfrm>
            <a:off x="2133720" y="228600"/>
            <a:ext cx="4279680" cy="647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FAF9-93ED-49F9-8705-7E187FA7FD28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2"/>
          <p:cNvGraphicFramePr/>
          <p:nvPr/>
        </p:nvGraphicFramePr>
        <p:xfrm>
          <a:off x="2133720" y="762120"/>
          <a:ext cx="450504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762120"/>
                    <a:ext cx="45050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4AAA-3DB4-47AA-A3B6-E02477B91845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Object 2"/>
          <p:cNvGraphicFramePr/>
          <p:nvPr/>
        </p:nvGraphicFramePr>
        <p:xfrm>
          <a:off x="2041560" y="609480"/>
          <a:ext cx="4740120" cy="613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1560" y="609480"/>
                    <a:ext cx="4740120" cy="613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524D-3EAD-4A0F-B30C-B6432858426E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2"/>
          <p:cNvGraphicFramePr/>
          <p:nvPr/>
        </p:nvGraphicFramePr>
        <p:xfrm>
          <a:off x="2057400" y="762120"/>
          <a:ext cx="4572000" cy="591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762120"/>
                    <a:ext cx="4572000" cy="59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9T17:41:01Z</dcterms:created>
  <dc:creator>Apadana</dc:creator>
  <dc:description/>
  <dc:language>en-US</dc:language>
  <cp:lastModifiedBy>MRT</cp:lastModifiedBy>
  <dcterms:modified xsi:type="dcterms:W3CDTF">2020-04-06T08:48:30Z</dcterms:modified>
  <cp:revision>262</cp:revision>
  <dc:subject/>
  <dc:title>PowerPoint Presentation</dc:title>
</cp:coreProperties>
</file>