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C39-7EF3-4A97-9F01-2686E3BB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9FE7-CC45-45FA-A199-2A1DB16C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F96-7700-4A19-BFBE-4258999B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344-84E9-47DB-9F43-A35DA20E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A295-79C4-4874-9738-A7C462F9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8649-E941-4CA4-ABD2-89BFCA37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F867-E965-4524-AE63-740C2D71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339C-B3B8-432C-8905-BC879AC9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33E9-FA18-4CBE-A6BE-95204A44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23D7-4EA8-4490-ACD4-1D54E742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DA4B-B235-4DFB-AEEF-A685C2C3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F90-C673-4A42-B55B-BEAD87F4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CE3B-B967-4874-9493-28E4C4B6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C688-3120-400D-88BF-9E99995E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CA9C-9F6D-49E3-B374-26A96DD1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F811-2DF4-4B19-B63A-9AAFC006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3C8F-E068-4AB4-9EE5-A58E1F26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C1856-4DF6-4A4F-9A44-727CD3D9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44522-15E6-46F5-BCD9-A54706CF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DF9A0-5917-4F91-B94D-7D6AC2B2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1DD36-517C-4D21-89AB-459F2BA3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13E49-D45A-45A8-AA1F-23E82134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37E-3757-486C-85AB-86926B32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7777F-80A6-4D9B-85EA-6829935C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1B72-50EE-45F6-BCFE-270878A2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A12DE-0989-4943-A98E-EC51D7B4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48A93-1527-40E8-A865-45460DBA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FF8B9-C078-4219-ADA7-1611447E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026B-3A65-48F9-A618-206DECB0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8F566-39F8-4225-9E93-E96B048E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A3C0E-D2D6-49B6-81A7-AED6A60F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62051-38CB-4E9E-8D19-491BC388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EF24-08A4-413E-8CA7-499569C1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B69-EE2E-4171-828C-080179A0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A056A-4A5D-4F55-A174-182F3AAD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786C3-6D70-4DFE-8A7D-7FA6E863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A0F32-3CBA-4782-8A46-DF65465B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90CD3-1A8A-43D9-9833-78D6D95D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21A5B-A6A2-4CB8-A9A7-E814D484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F441B-18D4-4029-BF1D-FAB41417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103A-2271-43FB-951B-C9434B23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B8B48-E9DC-426E-87F6-D5B44828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43978-D6FA-440F-BF05-DCB37EEB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0419E-2B59-4215-A880-513D6C1D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3C6-2BAE-4EE1-9865-2620A1CD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8342B-F310-470C-813F-1E3FAF4C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013BE-37E6-4E0B-A4C3-DDE02003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4A831-3E9F-478F-89DD-DB19B5BF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A7996-EB55-4CE3-B81D-9754C388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E7E54-3E94-473B-A4EC-C05B1D84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2D9CD-F0F4-4EBD-AE50-02FB8223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6ABE2-8BFC-4FF9-9409-C0B3B033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09062-F722-4484-BA1A-EA59CC47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0A7ED-C0BA-4537-B8EB-36A51A10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B36EB-F1E1-468A-BAEA-7AE4AAB8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2FC-BF63-4DF8-9CBC-BFCA7844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576F8-820B-432B-8C8F-045B5BFC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2F352-B8D2-409D-ADEE-329B86D1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00101-5BB4-42C6-849F-F8CC19E3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6CD3A-D704-46DD-828D-A7703462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525E9-1529-4271-BDC5-3B04180E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05737-4E3F-4B5F-8248-F120AE87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640C0-4CBA-483B-8B76-3FBEDD24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5EB9D-824F-4BD3-BB16-B07C3F87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D292F-9086-4DD5-BABA-AC8374E5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7E3C1-FACE-4E9A-B7DB-A51E380C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C79-F1A0-4FCF-AA20-44918101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5DF6B-87C4-4A80-BB62-3E6296E9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D4A67-9748-41B3-911E-6ECF5D54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6C63D-7D8E-45AB-BCA1-98663A78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13D-587B-4096-8523-7CCC19B4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DFC-BB21-443A-930C-C924BCEF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6FDA-24AC-4555-AECD-5D5FB1E3074E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749C-63A2-448B-AF38-8E13270A947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DBAE-2103-4F91-AFA3-6F02FE9F6114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95B0-9A1B-4DF0-BDE1-167AA8DDF2C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28D1-93DD-4E47-873E-9294771FBAAB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5436-1A6E-4AEE-B62E-EEEC32D510C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774F-9D59-4892-A254-25FA3B179FFA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1618-82B8-4516-9E44-49202D043751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D1C4-FA28-4CDB-B137-276C863EA6A7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4490-29E9-41ED-8147-B5E91BCB958A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7CE0-B585-4EA9-88B3-3139377BA854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E4A2-716C-4819-91E3-E60DE010B5B6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E894-ACC2-4468-B07A-F210B35AEF4F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1905120" y="304920"/>
          <a:ext cx="49449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920"/>
                    <a:ext cx="49449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EE97-B21B-45F9-9262-BEA67D389381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940040" y="380880"/>
          <a:ext cx="4868640" cy="63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380880"/>
                    <a:ext cx="4868640" cy="63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2594-ECFA-47C5-B33F-50D7C58C5F46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2048040" y="380880"/>
          <a:ext cx="4505040" cy="627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380880"/>
                    <a:ext cx="4505040" cy="62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52:05Z</dcterms:modified>
  <cp:revision>267</cp:revision>
  <dc:subject/>
  <dc:title>PowerPoint Presentation</dc:title>
</cp:coreProperties>
</file>