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D48-CDBC-4DD4-8C35-138F4929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911-742A-47FE-A947-BD180C51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347-1CCD-45D3-A7AC-16E6E703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0C9-207F-42EC-8D42-DF88056C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F8DE-E93A-411F-A7B8-3823CE99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6010-BCFF-405D-8C6F-79181A60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8F0B-7196-4447-B2B2-E35D9EA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0B1B-588C-44AF-AF2F-5A291E1E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0AF0-899C-4895-84F3-F4518A92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7092-87DB-4BAF-B3D9-1DDDCF4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36BD-D756-46B0-99C0-75283E05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506-D4A1-4CB0-8AE5-B9E88826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B275-DDAF-48A3-B65B-B26EC9CC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28D1-6FE1-4F6E-9AFD-2948B201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9169-8264-4A82-8AC0-45351CC0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D901-CBF2-4124-9960-F89FEF46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3973-DFDF-4489-B6D6-D440F249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B2C2B-6274-4FEA-AE73-CB0F4756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2A1D5-AF6D-421C-90E9-B8666B7A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B6A3-B564-44E7-8DE3-5BC62226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A5A37-50DB-4138-931F-AF5A46E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E794-633F-4B1C-BB49-E949897C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052-F17E-4331-ACEF-9EC80404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4EE5F-8ECA-4494-8A12-E1A82496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BD30-8C8D-4E33-998E-EE4AD61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B9E4-55DC-4ED3-A79B-2F643A6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C6BD-C583-4CF9-9F79-4C64539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5DF5-41FE-41D1-9A4C-2EE16D81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39E3F-5912-4063-A777-362F818B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E93AB-B2DB-4634-A8A6-00362A5D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FA28-2EA1-4F98-85FF-80EC9A21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08B5A-F640-4AB1-AB84-5956A121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E3D47-352C-44BF-8EB4-63E0F614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452-1D11-4263-8EB9-5DD9E97C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B6B9-CA78-4891-9B14-FA9F423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F4145-C109-4896-B780-2A4ACDA0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39CA2-76C4-42CC-962E-76084514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5A95D-7763-40A4-8C7A-6E4BBAB7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573A9-BFA8-45A1-A8EC-883E2BEB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DE983-CF21-465A-B9F8-4219877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6C5F-AC7D-469C-9D6D-643E530A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20266-25C3-4EC4-B2ED-3A0460C3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ADFD-C0B3-4037-ABA3-A51CC8CF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3101-50C5-45E2-BA5E-CB7424CA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318-09A5-4A9F-979F-2FF9F2FB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1DB2-DBA5-4217-B837-F78DAA2C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294F2-D4A9-4B05-9302-1221AA0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D3697-8A3A-4A0D-90E8-3E4DC0BD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405D-D01A-425D-96FF-1FF47E40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84EA1-0780-45A0-9B80-31266F3F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0AB1-4F64-4347-8177-759DDD12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77257-7FDA-4F17-9DCD-7FCA5C60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618BA-D220-4945-936E-3A27B3D8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75560-6B89-4C97-97E5-94220571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9D6A-5897-489F-BEC4-CF7338D1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F45-3425-48BF-B013-E56E9685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1BBF5-6739-4DE9-ADCB-89E3FFE8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497B-52DA-45CA-BBD2-707890E52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D077A-785F-45AF-A91A-C3DD4EE7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60756-B68D-44C6-A9A3-CB7E0F8E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4D9A8-A1EE-47B1-A663-6FFF8CBE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85322-F3B1-4985-AAF3-16881CB0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D91D5-5F98-4D40-8123-ADFBADF7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E1529-EA05-4A8F-9AA9-6FA1CE04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A38C2-E84D-43F1-9237-1684E30F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645A-F2EF-4B2E-941F-17CA8705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4FD-B836-445F-86A9-9A850D87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AAB8-E770-4015-8AE8-6D87C65F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CE32F-7C7E-4AE1-8C7D-98E08007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0440B-8CD3-49DC-9FD9-90DC5B85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E68-D184-4C90-A0CD-C90B273F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137-AC90-4C58-937E-B9429A41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BBF-DC8C-404F-B72F-FEDA90042EBE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156D-B4FA-4C89-98F0-87DCA9500187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A98D-8C1C-49CC-BD22-A6FC84C0202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AFD1-73BB-4ED4-86E8-C576A8DD88E4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42D4-D52C-4D26-8688-810FE1A7F6A5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F4C8-5346-454A-AF63-6CD1F902340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DFBB-4958-4597-871F-A62AD8AE9FBD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EEBC-0F3D-4F24-B5BD-CD7FFBCC4E5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C79E-3EDF-4D8C-8BA9-E0595EC8111E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37E1-4583-44F2-A6D8-A08CA10CB0E1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F6DD-D19B-4367-BAEC-D0B56005DE9B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6061-8E5D-4F85-AD6A-4C6FC8A2E52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A1EE-FEBF-4E61-AECB-F8764D85459B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30"/>
          <p:cNvGraphicFramePr/>
          <p:nvPr/>
        </p:nvGraphicFramePr>
        <p:xfrm>
          <a:off x="1676520" y="304920"/>
          <a:ext cx="4952880" cy="64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920"/>
                    <a:ext cx="4952880" cy="64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F2E4-F217-4DDD-B1E9-7DD6D5821A7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1752480" y="0"/>
          <a:ext cx="5299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0"/>
                    <a:ext cx="5299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204C-FEE3-4EE2-8DB4-FE37EB5F0DD3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2"/>
          <p:cNvGraphicFramePr/>
          <p:nvPr/>
        </p:nvGraphicFramePr>
        <p:xfrm>
          <a:off x="1685880" y="457200"/>
          <a:ext cx="4867200" cy="629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457200"/>
                    <a:ext cx="4867200" cy="62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BF31-6AC2-497F-A81C-792AF928711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981080" y="-44280"/>
          <a:ext cx="4876920" cy="68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-44280"/>
                    <a:ext cx="4876920" cy="68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18:30Z</dcterms:modified>
  <cp:revision>262</cp:revision>
  <dc:subject/>
  <dc:title>PowerPoint Presentation</dc:title>
</cp:coreProperties>
</file>