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08AE-9664-4B3D-B228-CDCC9A8E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050-7860-4975-ABCA-5787033C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6A8F-19FC-49AB-B979-478C2D15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A694-56F0-486F-A176-438E803D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1919-46BC-482A-A4C4-71C84D84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BA91-BCEE-468A-AEB3-31F7FF0D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0140-B460-4E87-AEE0-73630373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82D7-4125-4C75-8343-6F1AA4BB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82A7-EB89-4D0F-8FD8-4EE8DA4E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8626-8B24-48C8-BE90-E6480260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BE68-F89B-426C-8210-1455E219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9D1B-41FF-4255-86C8-FB19A8EB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1ACD-7475-480A-BBB4-BEBC4488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9EAF-0988-43C9-A908-ABC6BBDF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E453-8DBC-4600-A38F-8CE46A35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F409-97DB-40D6-8FE9-3657C52C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8594-085A-474E-AB32-B9DD3F84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422BE-44F6-43C3-B05B-E2479C1C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A2D87-23CC-4AA8-96D7-1079A658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9FBB2-841E-4F81-89DA-D2EFE1F9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B39AC-FC1D-4E90-88F2-805EAB98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C904E-9A49-4BE0-B410-51F6CFE0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FAB3-9779-4D66-94AB-1EE82FE2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A2E23-D49F-40AB-9DB1-6EF9F533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01E1A-7EE8-46E2-87EE-FCD7EF56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7237A-22E2-4A0A-BEEC-05286709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6A522-C872-4855-913A-C3F1EC26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4FE9F-FA59-4353-A035-A49B34A7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E9C88-7A50-4B71-BB53-428589FC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5BBA8-972B-4343-8245-B3176DC8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5DB59-9809-4F6F-8919-CDF1840B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2A178-A0C4-480D-B838-0E33AEF4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D6714-7347-4857-A890-18696658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EEC-BB11-4DE9-BEA1-00D37B61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E550E-3B77-43A7-837C-954F7723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3579A-E6D5-4DFC-B7C3-38FFD464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14DF5-31D1-4FD3-BC10-1424AAFB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52A44-582D-45B8-B0E4-42A8B131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91599-59E7-4E96-B279-1C3F545D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12535-D81C-459D-92CC-6019B0FF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43AE1-A057-4238-AE94-CFD61F1D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92F90-FBC6-40C4-A812-807993D7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347C8-FA48-4CA9-93A7-BCB20B7B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B37FD-F977-4B5D-8803-A2A992CD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9B99-4078-4055-8EB9-F4EC42DB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A5D1E-ECFA-4F59-8B85-E7FCF936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3A0A4-2247-41F3-B11C-2CB80B3B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090DD-3F5C-4B23-8051-56604A1F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F2660-AE82-480F-B19A-5FFFDD11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B73AB-480C-4D90-8D14-52B33624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5A500-1AFD-4A8D-9BD1-2AA4DA67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C14ED-73B6-4DA0-B4F0-594C4E93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AB3BB-0373-404E-AB42-F94FA9C0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69CF9-A19A-4211-8D64-D383D563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912BB-6585-452E-A332-3F2DD179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B0AF-ACC0-46C4-94EF-93F929CA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CE64B-4176-4CAB-8490-031156F8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CBA52-6FCB-4381-BF2D-3BFDB355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B13DA-E93F-49C9-BA9F-E4635FA1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5DFAE-9598-4624-9AE4-C59217BD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1C457-D3F1-4A7F-8891-0F24287A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83A29-1B38-4833-9003-539CDC0F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0C3ED-E001-4E90-B711-0EE81A4D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496D2-55EB-48F2-B484-E0EF6303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12CA6-E2D4-406F-8633-A78E1433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D2350-C32D-469E-B134-09D5CBFD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CF4E-016D-4FF7-AD9F-A534DAED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7DB1B-DA4A-49B1-AB86-4ED8CD21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42761-A13B-4612-8794-66AC0094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3EB09-B1FE-461B-9DAF-080DC120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FDE6-2159-46FA-A968-DD8A6E9A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084-2B54-430A-940A-8F6DC308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16FD-3BDE-4342-B9B4-DD09124171D9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D419-392E-4FDC-91A1-616D473145DE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BE82-4C03-4B52-B67F-5789AFBBC80A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B0C4-0CBF-42A8-BE51-10239E3A476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1AC2-3C55-4A25-A835-A03FD0512302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89D3-0F59-49ED-8EB0-D2B2F7395749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Oval 7"/>
          <p:cNvGrpSpPr/>
          <p:nvPr/>
        </p:nvGrpSpPr>
        <p:grpSpPr>
          <a:xfrm>
            <a:off x="4224240" y="6035760"/>
            <a:ext cx="901800" cy="766800"/>
            <a:chOff x="4224240" y="6035760"/>
            <a:chExt cx="901800" cy="766800"/>
          </a:xfrm>
        </p:grpSpPr>
        <p:pic>
          <p:nvPicPr>
            <p:cNvPr id="137" name="Oval 7" descr=""/>
            <p:cNvPicPr/>
            <p:nvPr/>
          </p:nvPicPr>
          <p:blipFill>
            <a:blip r:embed="rId3"/>
            <a:stretch/>
          </p:blipFill>
          <p:spPr>
            <a:xfrm>
              <a:off x="4224240" y="6035760"/>
              <a:ext cx="901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400640" y="6165720"/>
              <a:ext cx="5572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B2B6-21A7-41A9-B937-96D2FCF269DA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DB76-E8EA-42A8-83ED-8DB737A23C10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0AE6-234F-4ACB-A1DA-92A9820218C5}" type="datetime">
              <a:rPr b="0" lang="en-US" sz="1000" spc="-1" strike="noStrike">
                <a:solidFill>
                  <a:srgbClr val="f4e7ed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3144-6502-43A6-8955-4AD6EF2E8A06}" type="slidenum">
              <a:rPr b="0" lang="en-US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0C43-97CF-4F75-AB7D-F40675894FE8}" type="datetime">
              <a:rPr b="0" lang="en-US" sz="1000" spc="-1" strike="noStrike">
                <a:solidFill>
                  <a:srgbClr val="b13f9a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1109-D6A7-4B82-948D-B798F8B83390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622440" y="1231920"/>
            <a:ext cx="84852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2EF8-C64A-4B17-8E9E-51ACED7AC54C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4"/>
          <p:cNvGraphicFramePr/>
          <p:nvPr/>
        </p:nvGraphicFramePr>
        <p:xfrm>
          <a:off x="1905120" y="304920"/>
          <a:ext cx="49449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920"/>
                    <a:ext cx="49449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F708-81A5-4ABD-98AB-13E5B1DD84DD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940040" y="380880"/>
          <a:ext cx="4868640" cy="63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380880"/>
                    <a:ext cx="4868640" cy="63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F819-559C-40FD-9E30-7C7E038F878A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3"/>
          <p:cNvGraphicFramePr/>
          <p:nvPr/>
        </p:nvGraphicFramePr>
        <p:xfrm>
          <a:off x="2048040" y="380880"/>
          <a:ext cx="4505040" cy="627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8040" y="380880"/>
                    <a:ext cx="4505040" cy="627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7:41:01Z</dcterms:created>
  <dc:creator>Apadana</dc:creator>
  <dc:description/>
  <dc:language>en-US</dc:language>
  <cp:lastModifiedBy>MRT</cp:lastModifiedBy>
  <dcterms:modified xsi:type="dcterms:W3CDTF">2020-04-06T07:52:05Z</dcterms:modified>
  <cp:revision>267</cp:revision>
  <dc:subject/>
  <dc:title>PowerPoint Presentation</dc:title>
</cp:coreProperties>
</file>