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15A-CBC2-49D8-888F-7E8F8B8B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9FE-E86C-46CF-BC7D-7E8CD61C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D28-D526-411C-9FFD-FBB45839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672B-5F24-4A19-9FE3-C5506E97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88B8-59DF-4F52-ABAD-26D67952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7D89-EACF-41F3-AC97-A9DFB085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7A44-BE99-4A61-8318-DEDB32AA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CBDF-9263-44E1-BA89-B75C08FD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C093-918C-40D1-A45F-79F14A0E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7CCA-703B-4A65-BBD3-0BA0552A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97DB-6FCF-4FF1-A0FB-50E278BA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38A-C012-4183-BAD8-171179E7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1BA4-D15A-4D43-8AE8-79252672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1B97-E9FF-4686-A8C8-53CE793A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300B-7DF1-444E-BAE1-8107138C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4BC1-7367-4090-A225-2E42FBD9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34D6-FAE3-4CFF-84F8-7F9F614B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14EA5-3282-4591-B31B-24D168B1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60BD-EC96-4278-AD92-2F066C11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5CABA-85BD-4D66-BE4C-F1A668FC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207E-E8D4-4CB1-B7AE-BA948F58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47371-8362-496C-A54F-803EC199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DA38-DE74-4E6F-9C0C-3016339F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F456F-BEDE-48B4-A6A4-F3BB1E33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89D28-B617-4DA4-A823-B7A483ED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7600D-8DF8-475B-9E2F-A3B69A1A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43CF9-829D-4B17-AD5E-6CEE1B98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CED0C-8C26-468A-92EB-1927861F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4F93-7AA5-4061-B6BE-DE9DC7A6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291C9-5D3D-4821-9741-49DCAA89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13313-2120-4776-9263-F8B9BB53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8EBD2-ADD4-4C4D-88F0-26D51805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6D1D7-80F9-44F4-8399-B323AF98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CF6-ECAC-49B1-A2EB-87913E42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98F88-9814-46AE-9ECB-590C27CD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77579-1269-4C8D-BF48-3C50E874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35941-7DB5-4FC6-94C6-37410789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0FFD9-3EC8-4637-96FC-9BF7B925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47F7A-8703-4012-8EE0-CE86BCED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A8528-2C17-43BF-8412-0D50C419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00214-E91A-4D61-A032-374756F0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7C3E0-DEEC-48AD-9973-9D17D7A4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D6693-4490-4485-95A1-5C665999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8816F-7E4D-4B63-A9B1-B73C0339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FBA8-2F79-48BC-A6E8-09FEAC56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F9BCF-CA45-4CF0-A2E1-B86C14C9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59C8C-CA87-44FD-9E2B-A10EDFB8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7F7FD-FD48-4548-917B-AE73798B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F9AC9-BBA8-45A2-AF38-B70E8C2D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8FCA2-5C41-44B9-9C6B-97F42DA2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A0442-B30D-49AD-8840-A1FCE39D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C3643-0865-4249-B156-BA089C53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EF70C-8DBB-498B-A9EB-295A4C9E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A65CD-288F-459A-A667-83EAE0B0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7F7B9-B9E7-45C7-819C-A82A5BC5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000-E483-44F6-B9A0-81F34035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278B4-151C-4122-9FFD-5663854A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585A3-84AA-4A99-8394-D9189E42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1ACBD-114B-4500-9A35-4A24A73B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460BB-0835-4A0F-9572-FBFC64EF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F0723-C54C-4080-AB54-9A54B124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7DB4D-9F3B-4431-8407-D9C7C0E4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46BEE-D5D3-4FC7-A117-169263AF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6CF71-FC73-4756-9E5E-1BC6AD9C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AF09D-D66B-48B2-9751-2D030EA8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660C9-A8D3-4CBB-9A64-46C0B5F6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4C8-F900-4659-BC3E-D216768B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D0C8F-27B7-45CF-BC94-ED88E13F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1A892-21AB-41E4-BB63-2371A93B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804A0-8036-4A29-9CB9-EF31D2F3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DDF7-8AF2-4F66-B9B4-F8D601B0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97F-CD77-4A42-A37D-48365AA1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5AF0-9CA9-4BB3-BD3D-A4974DB4D745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1F87-B85D-4C33-B834-04C426ADC91C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B90D-EA84-4CC0-B45C-DA89FC46C16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0697-BCCC-4308-9A56-E71718696B6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666C-3D2B-4AF7-A84F-8B20BB95BA80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F059-5A43-4B5A-92CF-AB8876C138B1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1A7F-C9A7-4358-9A7C-3CB52C414A0A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C595-9E53-44A7-90C9-A75BCDA6757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548B-F688-4A6F-9CC4-65548CE85F0A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1984-47C2-482C-8982-8EAC543A075E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7593-647A-4F7F-8D7B-CAFB50DCA9B4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D478-BEC8-4DE5-8A39-EC8D8A356ECC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" descr="C:\Users\hory\Desktop\IMG_0002.jpg"/>
          <p:cNvPicPr/>
          <p:nvPr/>
        </p:nvPicPr>
        <p:blipFill>
          <a:blip r:embed="rId1"/>
          <a:stretch/>
        </p:blipFill>
        <p:spPr>
          <a:xfrm>
            <a:off x="2133720" y="228600"/>
            <a:ext cx="4279680" cy="64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1D77-ACDF-40B4-A518-6D850365EAE9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2"/>
          <p:cNvGraphicFramePr/>
          <p:nvPr/>
        </p:nvGraphicFramePr>
        <p:xfrm>
          <a:off x="2133720" y="762120"/>
          <a:ext cx="45050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762120"/>
                    <a:ext cx="45050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8AC7-9441-40A4-A9F1-8C64479B79D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2"/>
          <p:cNvGraphicFramePr/>
          <p:nvPr/>
        </p:nvGraphicFramePr>
        <p:xfrm>
          <a:off x="2041560" y="609480"/>
          <a:ext cx="4740120" cy="613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1560" y="609480"/>
                    <a:ext cx="4740120" cy="61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5D15-4C0F-466B-835A-2A19462CF0E9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2057400" y="762120"/>
          <a:ext cx="4572000" cy="59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762120"/>
                    <a:ext cx="4572000" cy="59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8:48:30Z</dcterms:modified>
  <cp:revision>262</cp:revision>
  <dc:subject/>
  <dc:title>PowerPoint Presentation</dc:title>
</cp:coreProperties>
</file>