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A9AE-11AA-43F2-961F-E1417514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DC6-250F-4535-A754-F5D3B566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E8C1-C223-4A53-A97E-F01C7DC5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023-C458-4CF4-A5DE-E7C0A8DA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B141-BB98-4A94-B928-4113405D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404F-09F0-4D95-84E1-6A3CBE7F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44B9-6497-4B3F-8BC2-46E79EDC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9357-6913-41F9-898A-9444AB66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5B08-6FBD-476E-8B6D-A13D1F08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46CB-3DF6-4679-8728-88FAD48A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50DB-D7AD-4F45-90AD-E4DF2FA2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E66-62F0-4972-81BF-0C8B3D62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56F6-FC34-4DC1-AA9C-16D5AAFC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424E-B8EB-45B6-8A99-320A9F99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71FA-179F-4CE3-B6A1-6EC980CC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6467-7AC2-484B-900A-0AE10907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5704-9828-4C8F-BCA2-D5019A24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32DA4-9606-461F-8D1B-A9DC8A68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B91F0-D3ED-4951-8044-0D7D4729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00DD6-59FA-4C95-BBDB-A4315986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F3CE3-7228-4E14-9DA9-DBFC5C2D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0B3DB-8BDB-49A2-8CD8-97C4B93B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AD6-2FF7-45FB-9D28-5B2E00D8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5D4EA-91AC-4E6B-9113-E4A0E5C6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3FB92-CDCE-4472-99DD-1D53B913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6F50E-8B4C-42F7-BCFB-70012CE6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53E2D-CEED-4EA6-8B6F-3F85A984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6A754-E7BE-4868-8284-7F49F5CB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58354-E2AE-4562-AB60-B7D3CA57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6F849-24C7-4689-832C-EC5CF257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344E0-6ADD-45C3-8047-749AA917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527EE-3674-4140-A720-2E128276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AEE14-2FC5-43DB-BF07-E0C438AF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7C77-A111-4E90-B59D-943238B8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DC4B9-5128-4905-AB29-2E93CF34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3B03C-3E00-4B63-B544-99C3FBFA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B2737-ECE4-4EEB-91F2-339A8472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89FC0-D3DB-4659-B128-811E8C1F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E5351-6BBE-4E3B-BA55-00A0F401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B78DC-0674-4FFB-B989-63CFDB18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9BBD4-1E02-4420-A2E9-AC3FDF0A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EBA63-494C-48EF-A1BA-A0461226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EE2E9-71FB-437D-A68C-2680D0F0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C1B8B-9D71-4D37-866E-1774995A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4E0-5091-4E03-AA78-C35EF4A8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23FC5-23AE-405D-BA38-B3E8F0A7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901B2-12B3-4222-9709-725FEC65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7C1AD-3F13-41BE-B530-2D910FCC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8C946-307A-4C06-892D-117E5A7D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79AA1-E72C-454D-8B2D-440E0755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67C68-3ED0-4B57-8A23-4A8B4A7A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6A49D-911A-4DD0-9393-A879ACD6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CD8E3-9362-456E-9F41-4B428E0A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BB458-2849-4F7C-97EF-5E24C6ED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8945E-DC92-4BBA-BC11-2228AD76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45E-0F01-4E2C-9F99-801EBF1B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2EBE2-9897-4D10-A367-F9B223A5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DF462-3C98-4A65-93D3-EFEE3635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4F44B-2341-42FC-85CE-880A8B8C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46405-261A-41E9-82E8-9F16D597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5AEB5-A42A-4F83-B59E-B632998A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47CB9-4250-42AE-A15F-BBA985F1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3C426-1367-4AB7-9964-898AB61F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633C0-566B-49E0-9182-9DEF8CB3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0E4E2-09B4-4617-842B-E84DA9E9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5F8F4-0E26-49B7-9966-95D2B7A7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339-368F-41FC-ABCA-3E4100A2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9C6B0-A7FF-41BE-B9FB-BBEDDABE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CB571-5C32-4D08-A8A7-4774953A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3F17F-CF18-4D33-8796-4E84EE61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319-D38B-4A9F-A221-C83E5566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109-2265-43E1-A713-A5C67B94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50EC-B0CF-49B5-B040-3EFC40794284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8ACB-2337-4B68-9BD9-A29146EBEE00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F3C6-DE0E-455D-A831-709FD6D665C2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6836-932F-4753-B0DD-01FF4991A49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EC54-4C0B-4ED3-B74E-B7FEEDDB4CD7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E063-B1B1-449E-B58B-A3A7FB467091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AB2D-415C-4F66-A46A-F13D34505073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A7F9-63BE-490E-B230-56B388D43A4F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1550-CED4-4196-93A8-41A94DFFF71C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7C9F-E86F-4AAB-8E11-92441F1BCC31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E559-7047-4B0A-8966-C8CA0F25FCE6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31ED-E93E-4462-AB69-1C9E8D011BAC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9D16-7D7E-406B-A63E-2FFB28CD4621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4"/>
          <p:cNvGraphicFramePr/>
          <p:nvPr/>
        </p:nvGraphicFramePr>
        <p:xfrm>
          <a:off x="1905120" y="304920"/>
          <a:ext cx="49449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920"/>
                    <a:ext cx="49449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9ACD-2333-4AB6-8A03-80E67F7600AC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940040" y="380880"/>
          <a:ext cx="4868640" cy="63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380880"/>
                    <a:ext cx="4868640" cy="63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E696-9E82-4F6E-9F95-BFA589A9EDC2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3"/>
          <p:cNvGraphicFramePr/>
          <p:nvPr/>
        </p:nvGraphicFramePr>
        <p:xfrm>
          <a:off x="2048040" y="380880"/>
          <a:ext cx="4505040" cy="627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380880"/>
                    <a:ext cx="4505040" cy="62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7:52:05Z</dcterms:modified>
  <cp:revision>267</cp:revision>
  <dc:subject/>
  <dc:title>PowerPoint Presentation</dc:title>
</cp:coreProperties>
</file>