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41CA-E730-45A5-845D-C6B345663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6098-F0EA-4690-96E7-A8843ACC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293F-E2D3-464B-B101-03CD0C2F5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2B52-A4D2-47F7-B47C-A1877B01A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59F0-3A42-4981-843C-1175BA97B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9E27-91E3-45F3-AB9C-624019B6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D4F8-DDE6-4231-AE98-273AE7DB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FCD1-60DB-4A7A-9BE3-41CC5A2E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6668-AC40-4794-B96B-B9D54FE6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5F21-4F67-43D7-A38B-FD5AEDCE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7FD7-A733-40DB-86DE-DD9505B0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8EB8-4406-47E2-B362-51F4AC2D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B719-F56B-4D38-9ADA-FB0D58FD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A015-112E-41A8-9AB1-A3DCA481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B02C-D187-4D39-A66D-32DD252D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31950-F0F9-46A2-9A2E-2216DB522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7248-A494-456C-AD8F-2DCC50D71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AB68E-0D96-4666-8F15-550020E97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967AC-8F58-48B2-AD24-3DB4062B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48794-37A8-43B2-8ABE-636B28A2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01BB4-584C-4DD1-A900-D3C8BF33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D2E3C-EE7E-40FF-875D-4B125A30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22FF-9509-4FC5-B008-7A32CE43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3CAB3-3543-4EA1-A5A1-8FDCCC5F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248B2-DEF1-4C48-A9CE-2F73DD11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5C03A-6EC2-4A0D-BC35-C3530385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F912B-A73D-44B8-AF8F-2C20850F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5F6C8-A771-4DCD-9DAE-278D70D2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B4DEE-1073-45EA-8567-AE9098012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D96DD-21D6-4DD3-ACA2-688168280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9BDE3-ED3F-4016-A8DD-A7960400D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C8292-B674-4122-B432-130B6E87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4C916-B8E3-4D94-9231-9BCC8B6C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7B55-5A35-41D1-853E-E97CD8FD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307BE-DA5B-4494-AB91-3C498B97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391E2-956E-42E6-96FA-4FBA4CE8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17539-805E-4E73-99F3-F97EDD21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65875-7D63-4323-82BB-E10E7D71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EF27E-5A34-4632-BABB-F176847E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62717-2EAF-4B38-AF54-37913F0E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67A70-A209-46AC-8C39-A15D5CFC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D5370-ABB1-4D73-9F65-B26F05E9F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F1EC6-255D-498D-AC82-B82190267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AF64B-4777-4929-A7AB-1E072E9FB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C853-7C30-4C9C-89D7-C4AC6AEF6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FA48D-BBDF-4909-808A-9742E1A7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C75D9-06C6-45A3-A883-8E81359A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643E9-4693-4182-A368-452480DD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612C1-45B3-4C30-9089-1705A24D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8E11B-A3F5-4EE5-891A-008B84A2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0E69F-6D4C-403C-8601-CC72276D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C9BB9-F481-4801-BD9E-9BFBDD1F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D0BE1-EA8A-457D-8D48-93B975D7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DE78E-9F34-44CD-8D2F-C7C2910C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FB711-01E5-4E8A-8ADD-C59961D18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4183-06C0-4C81-B469-E78B79A0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D473A-CC2F-4ABA-9EC6-77CB84EB3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A3112-5390-4B21-901E-23B9D0382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DFDA2-2B25-4C69-A1EF-AC14D0B0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4E9A7-4672-499E-97AA-AA2658B6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484EF-249D-4E6C-9A06-AFDCFC8F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776CF-EEDB-4AAA-9933-CF27D293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3AFEA-7EF7-4989-9775-AC4C1ADD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99D3A-9908-4165-9912-0B457A39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46845-FAC3-40C9-8D7A-E5AD3AF6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667E2-C8F0-4493-8453-02647479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AC1B-F8CA-4BD7-A497-D6024A4F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AB153-7480-44CE-948E-5E871740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C6670-E544-4923-A43A-FBD43D316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ACFE3-4371-460E-88F4-7C2CE7C2A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F716-5F17-4AA4-8304-88B71FFA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4146-72DF-45DD-9632-062759AE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2114-5577-4B84-9D6D-8EE49491C206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3BCD-C8AC-402D-845E-635DF872D07D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5BBD-A01D-4DC2-B1E7-891702BC3653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F4AB-97BF-4E56-BC01-2F4EA1683958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8AA2-C2A6-4DB0-9D28-98233F1562AC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5478-B5A5-4BF4-9C8B-96BCCAE005AD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4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Oval 7"/>
          <p:cNvGrpSpPr/>
          <p:nvPr/>
        </p:nvGrpSpPr>
        <p:grpSpPr>
          <a:xfrm>
            <a:off x="4224240" y="6035760"/>
            <a:ext cx="901800" cy="766800"/>
            <a:chOff x="4224240" y="6035760"/>
            <a:chExt cx="901800" cy="766800"/>
          </a:xfrm>
        </p:grpSpPr>
        <p:pic>
          <p:nvPicPr>
            <p:cNvPr id="137" name="Oval 7" descr=""/>
            <p:cNvPicPr/>
            <p:nvPr/>
          </p:nvPicPr>
          <p:blipFill>
            <a:blip r:embed="rId3"/>
            <a:stretch/>
          </p:blipFill>
          <p:spPr>
            <a:xfrm>
              <a:off x="4224240" y="6035760"/>
              <a:ext cx="90180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400640" y="6165720"/>
              <a:ext cx="557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CBE8-8481-41FC-8E45-A2C58048E7FF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FD3A-5C87-4AB3-9A9C-8D535206E7BF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0F9E-8C6A-4E8D-8223-D377FB35CE35}" type="datetime">
              <a:rPr b="0" lang="en-US" sz="1000" spc="-1" strike="noStrike">
                <a:solidFill>
                  <a:srgbClr val="f4e7ed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84A3-7F98-4A03-9750-6078C81E5A18}" type="slidenum">
              <a:rPr b="0" lang="en-US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4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BBE3-34BA-4253-925B-CFE709C05713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8CE5-33B5-4F26-8B59-53AFFD9ED52C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itle 1" descr=""/>
          <p:cNvPicPr/>
          <p:nvPr/>
        </p:nvPicPr>
        <p:blipFill>
          <a:blip r:embed="rId1"/>
          <a:stretch/>
        </p:blipFill>
        <p:spPr>
          <a:xfrm>
            <a:off x="622440" y="1231920"/>
            <a:ext cx="848520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3" descr="C:\Users\hory\Desktop\IMG_0002.jpg"/>
          <p:cNvPicPr/>
          <p:nvPr/>
        </p:nvPicPr>
        <p:blipFill>
          <a:blip r:embed="rId1"/>
          <a:stretch/>
        </p:blipFill>
        <p:spPr>
          <a:xfrm>
            <a:off x="2133720" y="228600"/>
            <a:ext cx="4279680" cy="647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F348-0AB7-4C87-8EAC-4709C5C04960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Object 2"/>
          <p:cNvGraphicFramePr/>
          <p:nvPr/>
        </p:nvGraphicFramePr>
        <p:xfrm>
          <a:off x="2133720" y="762120"/>
          <a:ext cx="450504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762120"/>
                    <a:ext cx="45050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E7BF-DB14-4601-B4A2-2F134DB78B24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Object 2"/>
          <p:cNvGraphicFramePr/>
          <p:nvPr/>
        </p:nvGraphicFramePr>
        <p:xfrm>
          <a:off x="2041560" y="609480"/>
          <a:ext cx="4740120" cy="613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1560" y="609480"/>
                    <a:ext cx="4740120" cy="613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24D2-D32F-4202-9639-56FF76E31CA8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Object 2"/>
          <p:cNvGraphicFramePr/>
          <p:nvPr/>
        </p:nvGraphicFramePr>
        <p:xfrm>
          <a:off x="2057400" y="762120"/>
          <a:ext cx="4572000" cy="591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762120"/>
                    <a:ext cx="4572000" cy="59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9T17:41:01Z</dcterms:created>
  <dc:creator>Apadana</dc:creator>
  <dc:description/>
  <dc:language>en-US</dc:language>
  <cp:lastModifiedBy>MRT</cp:lastModifiedBy>
  <dcterms:modified xsi:type="dcterms:W3CDTF">2020-04-06T08:48:30Z</dcterms:modified>
  <cp:revision>262</cp:revision>
  <dc:subject/>
  <dc:title>PowerPoint Presentation</dc:title>
</cp:coreProperties>
</file>